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659-6B09-4862-BB4C-6192091C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29E-F09C-42BE-99C8-2C9EB324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8BF1-033E-487B-9282-30843AE8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DBC8-1626-42C3-AD40-94B2771B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3C9-E4B2-484F-B3E1-473E1524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771-A673-4A46-86B2-1E15B404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03BE-15F6-468B-8DE8-0B77FB2E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3720-243B-47BF-B700-13BAB2F8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7F60-BFEF-4874-88FB-7E28ABAA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8F3-2546-426D-8045-B3B38B91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6420-1254-4F6B-9FEE-8957C0FD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5E52-8A1E-4ECC-B5E3-26AA1BA7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CF65-BADF-4962-8C4F-C9FF1113A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iltshirewebconsultants.co.uk/~thegasco/artistgallery.php?artist_id=39&amp;artist_name=Picasso,%20Pablo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09960" y="228600"/>
            <a:ext cx="4924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571680"/>
            <a:ext cx="60199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Pablo Picasso. Science and Charity."/>
          <p:cNvPicPr/>
          <p:nvPr/>
        </p:nvPicPr>
        <p:blipFill>
          <a:blip r:embed="rId1"/>
          <a:stretch/>
        </p:blipFill>
        <p:spPr>
          <a:xfrm>
            <a:off x="1119240" y="728640"/>
            <a:ext cx="69055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Pablo Picasso. Tumblers (Mother and Son)."/>
          <p:cNvPicPr/>
          <p:nvPr/>
        </p:nvPicPr>
        <p:blipFill>
          <a:blip r:embed="rId1"/>
          <a:stretch/>
        </p:blipFill>
        <p:spPr>
          <a:xfrm>
            <a:off x="1990800" y="-9360"/>
            <a:ext cx="516240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0120" y="1038240"/>
            <a:ext cx="79437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Pablo Picasso - Dans Leteli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38560" y="380880"/>
            <a:ext cx="44668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4:56:31Z</dcterms:created>
  <dc:creator>Patrick J. Mooney</dc:creator>
  <dc:description/>
  <dc:language>en-US</dc:language>
  <cp:lastModifiedBy>Patrick J. Mooney</cp:lastModifiedBy>
  <dcterms:modified xsi:type="dcterms:W3CDTF">2010-01-19T15:15:42Z</dcterms:modified>
  <cp:revision>5</cp:revision>
  <dc:subject/>
  <dc:title>Slide 1</dc:title>
</cp:coreProperties>
</file>